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7F0-28F7-4852-86AF-77839EEB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11D-CE2F-457E-891A-D5455C86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729-B2AB-4400-A194-1410AD72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32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34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32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34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2BB-FABC-4D5D-9FA7-FB8CF85E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3A09-2D5B-48B5-9024-0984B415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8904-99BA-42BC-85AB-5C984D04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5861-5087-4BD2-82CB-5E242B2B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A93C-9B2C-48BC-BB9B-DBE1E9AF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3A95-A1B0-4C84-9360-A230BE93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58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CEA2-9565-4D09-A8A3-7F21D658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C085-C5C1-4BBC-82DF-FCE38C4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342-CA96-4029-B075-C351E881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3197-95CD-4B52-AE9E-6B934464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1D62-4BFC-420C-96C1-42BF58C0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227B-BDE3-4531-9EFD-00006361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6165-3ED2-496E-B046-C5069CB3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32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34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32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34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37C3-34AE-49D4-8C78-29A16098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A82-8E8C-49BB-B1F9-11A1F117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410-C75C-4111-ADFB-D499FD5C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FCB-E0AD-4CAA-B2CB-29AD286A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58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9B1-7DA7-4458-BCA9-D19A5102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AD4-92CA-411F-9FE7-A933E51F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FD3-422F-4FF3-891E-3B837E8A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814-DC8D-43B6-A508-6F13C33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8280"/>
            <a:ext cx="1089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11/0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280" y="6582960"/>
            <a:ext cx="6046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82960"/>
            <a:ext cx="107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411633-D691-4ED0-B017-EE792962245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1640" cy="103320"/>
            <a:chOff x="539640" y="6311880"/>
            <a:chExt cx="2771640" cy="103320"/>
          </a:xfrm>
        </p:grpSpPr>
        <p:sp>
          <p:nvSpPr>
            <p:cNvPr id="8" name=""/>
            <p:cNvSpPr/>
            <p:nvPr/>
          </p:nvSpPr>
          <p:spPr>
            <a:xfrm>
              <a:off x="1650240" y="6311880"/>
              <a:ext cx="1661040" cy="10332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8680" cy="10188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8205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78280"/>
            <a:ext cx="1089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11/0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280" y="6582960"/>
            <a:ext cx="6046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82960"/>
            <a:ext cx="107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5C8870F-C257-4BA3-B3A4-DA98A110E86C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29080" cy="198360"/>
            <a:chOff x="1906560" y="3645000"/>
            <a:chExt cx="5329080" cy="198360"/>
          </a:xfrm>
        </p:grpSpPr>
        <p:sp>
          <p:nvSpPr>
            <p:cNvPr id="53" name=""/>
            <p:cNvSpPr/>
            <p:nvPr/>
          </p:nvSpPr>
          <p:spPr>
            <a:xfrm>
              <a:off x="4042800" y="3645000"/>
              <a:ext cx="3192840" cy="19836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080"/>
              <a:ext cx="2017080" cy="19548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i.opasnet.org/fi/Kysely_puun_pienpoltosta" TargetMode="External"/><Relationship Id="rId2" Type="http://schemas.openxmlformats.org/officeDocument/2006/relationships/hyperlink" Target="http://fi.opasnet.org/fi/Kysely_puun_pienpoltosta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66880"/>
            <a:ext cx="820728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ysely tiedonhankinnan tukena</a:t>
            </a:r>
            <a:br>
              <a:rPr sz="2400"/>
            </a:br>
            <a:endParaRPr b="1" lang="en-US" sz="36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i-FI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F204-1D4B-4987-AC8A-604D5C27111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erveysvaikutusten arvioint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yrkimyksenä ratkaista, miten pienen taajaman lämmöntuotanto tulisi toteuttaa kun otetaan huomio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nhiukkasten terveysvaikutu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mastovaikutuk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&gt; terveysvaikutuk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orat ja epäsuorat kustannu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5445000"/>
            <a:ext cx="7750080" cy="10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9A8-9E41-4CB0-91D4-C8132A7E13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ioinnin rajau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000 asukkaan taa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net energialaitokset (1-20MW) sekä talouksien polttolaitteet (&lt; 20 K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ämpöenergian tuot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ttoaineet: puu, pelletti, kevyt ja raskas ölj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svihuonekaasut sekä PM2.5 –päästö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veysrisk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ikutukset ilmast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stannu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57F-EA5B-4810-987D-3318170888C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iointimalli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4040" cy="435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950-64B7-4087-ADEC-88DC3ADB9CB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n tarkoitu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n tarkoituksena oli kerätä tietoa eri sidosryhmien näkemyksistä mm. siitä miten lämmöntuotanto pientaloissa tulee kehittymään tulevaisuuden Suomessa (tarkasteluvuosi 2030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n tuloksia tullaan hyödyntämään arviointimallin rakentamisessa sekä tulevaisuuden arviointien suunnittelu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E43-91FA-4827-98BA-3132CA9C7B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n 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ämpöenergian tuota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ämmöntuotanto tulevaisuuden Suom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ämmöntuotannon keskittä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ämpöenergian tuotannon ominaispäästöt (PM2.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ämmöntuotannon kustannusten kehitty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vioinnin tavoitteet ja arv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insäädäntöön vaikuttavat tekijä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9A4-1BE2-4A74-8CA4-AE3CBAE5F9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yselyn toteuttamine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tikys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i.opasnet.org/fi/Kysely_puun_pienpolt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ysely oli aktiivisena kaksi viikkoa (16.-30.11.200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ysely esiteltiin Puun pienpoltto seminaarissa Helsingissä (10.11.200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457200">
              <a:lnSpc>
                <a:spcPct val="85000"/>
              </a:lnSpc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allistujina mm. tutkijoita, välinevalmistajia/ -kehittäjiä, päättäjiä/valtiolaitosten edustaj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ysely lähetettiin sähköpostitse osallistujille ja muistutuksia parin viikon aikana use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7EC-7E5D-43E3-9121-631DD788194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Vastausten määr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480360" cy="3463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42920" y="5516640"/>
            <a:ext cx="67690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selyyn vastasi 111 kaikista 181 kyselyn vastaanottaj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3F1-73E3-4779-81A0-57CD35F0B8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1A. Puun käyttö pääasiallisena lämmönlähteen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i-FI" sz="2600" spc="-1" strike="noStrike">
                <a:solidFill>
                  <a:srgbClr val="000000"/>
                </a:solidFill>
                <a:latin typeface="Arial"/>
              </a:rPr>
              <a:t>Vertailukohta:</a:t>
            </a: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uonna 2005 lämpölähteiden käyttöosuudet omakotitaloille olivat: puun pienpoltto (puun poltto pääasiallisena ja lisälämmönlähteenä sekä pelletit) 27%, öljylämmitys 22%, sähkölämmitys 33%, kaukolämpö 5% ja lämpöpumppu 13% (Vehviläinen ym. 2007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i-FI" sz="2600" spc="-1" strike="noStrike">
                <a:solidFill>
                  <a:srgbClr val="000000"/>
                </a:solidFill>
                <a:latin typeface="Arial"/>
              </a:rPr>
              <a:t>Kysymys:</a:t>
            </a: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ten arvioit tilanteen muuttuvan omakotitaloissa Suomessa vuoteen 2030 mennessä seuraavien lämmitysmuotojen osalt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F66-E903-4202-A8F9-877000B935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6720" y="616572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ttp://fi.opasnet.org/fi/Kysely_puun_pienpolt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462-42E4-4C55-AD07-C08CB23DF5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2800" spc="-1" strike="noStrike">
                <a:solidFill>
                  <a:srgbClr val="7bc143"/>
                </a:solidFill>
                <a:latin typeface="Arial"/>
              </a:rPr>
              <a:t>1A. Puun käyttö pääasiallisena lämmönlähteenä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197600" cy="29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4641840" y="1484280"/>
          <a:ext cx="4032360" cy="2297160"/>
        </p:xfrm>
        <a:graphic>
          <a:graphicData uri="http://schemas.openxmlformats.org/drawingml/2006/table">
            <a:tbl>
              <a:tblPr/>
              <a:tblGrid>
                <a:gridCol w="819000"/>
                <a:gridCol w="1501920"/>
                <a:gridCol w="817560"/>
                <a:gridCol w="8938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140360" y="1628640"/>
          <a:ext cx="4752720" cy="3456000"/>
        </p:xfrm>
        <a:graphic>
          <a:graphicData uri="http://schemas.openxmlformats.org/drawingml/2006/table">
            <a:tbl>
              <a:tblPr/>
              <a:tblGrid>
                <a:gridCol w="396720"/>
                <a:gridCol w="2936880"/>
                <a:gridCol w="942840"/>
                <a:gridCol w="476280"/>
              </a:tblGrid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ääntyy palj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ääntyy jonkin ver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ysyy nykyisellää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ähentyy jonkin ver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ähentyy palj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osaa san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i-FI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371-FDFF-4CC8-A483-C2D9CBA841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tyksen 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n hyödyntäminen tutkimukse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 tiedonhaun työvälineen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työkalun ominaisuud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erkkinä kyselyn hyödyntäminen arvioinni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erkkinä arviointi puun pienpolton terveysvaikutuks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nnin rak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elyn hyödyntäminen arvioinn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n muut käyttösovelluk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95B-3A22-4324-97F5-7A99C094C2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32360" y="1344600"/>
            <a:ext cx="3451320" cy="23972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2400" spc="-1" strike="noStrike">
                <a:solidFill>
                  <a:srgbClr val="7bc143"/>
                </a:solidFill>
                <a:latin typeface="Arial"/>
              </a:rPr>
              <a:t>1A. Miten arvioit tilanteen muuttuvan omakotitaloissa Suomessa vuoteen 2030 mennessä seuraavien lämmitysmuotojen osalta?</a:t>
            </a:r>
            <a:endParaRPr b="1" lang="en-US" sz="2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22160" y="3598920"/>
            <a:ext cx="3562560" cy="2473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03640" y="3699000"/>
            <a:ext cx="3402000" cy="2367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900000" y="1413000"/>
            <a:ext cx="3292560" cy="2286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11280" y="1413000"/>
            <a:ext cx="17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uun käyttö pääasiallisena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lämmönlähteen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484280"/>
            <a:ext cx="20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uun käyttö lisälämmönlähteenä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3789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Öljyn käyttö lämmönlähteenä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3789360"/>
            <a:ext cx="17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ellettien käyttö lämmönlähteenä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1B0-584A-4888-ACD2-03A527E81E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IITO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395-10DA-46AE-92F8-DA163B6AA5E6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 on sopiva tutkimusmetodi, jo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tkimusasetelma on tarkasti määrätty (eikä muutu hankkeen aika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tkija voi määrätä kysymykset etukäte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tkijalla on näkemys mahdollisista vastauksista (tiedon varmistamin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ytään määrällisesti mitattavia tai muuten eksaktisti määriteltäviä fyysisiä asioi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ymykset halutaan esittää suurelle joukolle henkilöitä, jotka asuvat hajallaan (oto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(Huom! Tulosten käsittelyssä kaikille vastaajat ovat saman arvoisia vrt. asiantuntija vs. mattimeikäläinen)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616572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ähde: http://www2.uiah.fi/projekti/metodi/064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DCC-9579-42A7-B4F2-D82B63C168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 tiedonhaun työvälineenä (1/2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elyn tarkoi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aktojen keruu vai mielipiteiden/asenteiden kartoit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etod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tta kartoittava tutkimus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avoimet kysymyk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lemassa olevan mallin täydentäminen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kvantitatiivisten vastausten mahdollisu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ypoteesia testaava tutkim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7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ohderyhm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ryhmä (ryhmä, jolta tietoja halut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tos (ryhmä perusjoukosta, jolle kysymykset esitetää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4EA-900C-4B4C-B5F0-4D61107F4F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 tiedonhaun työvälineenä (2/2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ymysten loogisu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ten ennak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hdollisen hypoteesin huomioi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säkysymysten mahdollisu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ikarajoitt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joukon tavoittaminen/ motiv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stausten käsit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llättävien vastausten käsitt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ettikysely vs. lo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5E4-B88B-4070-AAC0-5A518091D4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76720" y="616572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ttp://fi.opasnet.org/fi/Kysely_puun_pienpolt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811-32BF-4E42-B74B-E22BA25045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elytyökalun ominaisuud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ettikysely (sähköinen muoto helpottaa tulosten käsittelyä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ikille avoin ja ilmainen käyttömahdollisuus (Google Docs -palvel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atii ainoastaan rekisteröinni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dostoihin pääsee käsiksi mistä tahansa internetyhteydellä ja selaimella varustetusta tietokone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alvelu luokittelee ja taulukoi kyselyn tulokset automaattises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4F6-0A20-4F2A-AC95-4CE089623F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420-8E04-412B-8B74-8FCABFF02F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0"/>
            <a:ext cx="9080640" cy="6524640"/>
            <a:chOff x="0" y="0"/>
            <a:chExt cx="9080640" cy="652464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080640" cy="65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0" y="0"/>
              <a:ext cx="9080640" cy="652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85000"/>
                </a:lnSpc>
                <a:spcBef>
                  <a:spcPts val="1137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asnetin käyttökoulutus/ Pauliina Ahtoniem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F18-B574-4940-A160-C7EE9AAC87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8:23:42Z</dcterms:created>
  <dc:creator>pahz</dc:creator>
  <dc:description/>
  <dc:language>en-US</dc:language>
  <cp:lastModifiedBy>pahz</cp:lastModifiedBy>
  <dcterms:modified xsi:type="dcterms:W3CDTF">2010-02-15T06:31:15Z</dcterms:modified>
  <cp:revision>27</cp:revision>
  <dc:subject>suomi</dc:subject>
  <dc:title>Slide 1</dc:title>
</cp:coreProperties>
</file>